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617D-0066-4159-B928-5FB3DA480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7E48-AF3E-4B81-84E6-86C40C4598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DFC1-D1D5-4417-819F-A20E5A584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0A39-3883-4DFE-BC8C-E8E7BDC1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AD76-F2D9-4F45-A8A7-487E5C021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7616-DE59-4558-81E5-DD1AE1D0C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0D9E-FF17-4C59-AD3C-64C8AA2FB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70D9-A740-41A4-8A43-119F0186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6F96-D866-4966-8C7C-7E64C809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6A66-F36A-4435-8291-00E323B1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6996-3514-48B3-B102-02F52C75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3CB7-32C7-44D7-849E-D9E7F6AF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CE9A-66F5-492B-8067-81CD0C26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05ED-7A7C-4E7B-8FEB-09B6C467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880C-B58B-4771-92FA-6D2F2294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9C9D-C2EF-4C59-B986-3541D8FE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D1E1-5126-44D2-A505-49E77106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B362-51AA-452F-B99D-334DBE1D7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8363-C4DA-4AE7-9024-D4C3C490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68913-18B9-4C17-A679-890FC3CB2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EE1DD-04AB-4947-9C59-95993E01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4B80D-D73E-4283-9930-3138DCEE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BCE4A-2381-4CC1-8569-299B30FC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AA46A-5BD6-4B2F-ADAE-67C43AC3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D284-C5D3-4F65-988E-B8D82BDB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726B7-A278-401F-B459-EAFB9B26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4E3B9-90DE-439C-9D07-17ACD9DD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D0B1C-A4D6-4A58-B57F-F1B4337A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3F985-8508-438B-8B38-7976B67E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07021-81AE-49BB-BF73-B953683B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448E6-A606-4B49-9232-4F1F78043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B2794-4BFB-4274-9F42-2A98D3B5B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F66DE-910C-466D-85B2-EC630983A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B8E63-66DD-4A00-9988-F815CCDD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208DC-6387-4FCB-A264-6E0C5AF4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3A57-8177-4FD0-AC04-43C556BD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A157B-A162-4CAF-8162-AA72FFD0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B0B9E-4BF0-4552-B069-BE9C9A9D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EF681-A0CE-4067-94D0-75B96FC1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7E35C-125B-4373-90C3-2491369F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5A674-D1F1-49C8-A6E7-83867CEE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8F53B-E8B3-421C-8BA8-669F96B9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B91F5-70A5-49E6-A4C5-B075DDA9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4E64A-023D-4842-9AF8-D05EB1E95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B4449-8EE9-4998-BE38-9AB9375AF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0B4C-32BB-4B45-A4C0-728A4FAB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CB92-B9EC-4D2E-99F6-4195F3EB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2120-B78C-4439-96E4-4AC96B6B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B223-A76D-44FB-AFA5-5FE31F1D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81C8-84A2-4324-9E35-16A4352B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1366-71E2-40DB-8777-E78BF50DCD4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" name="Freeform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5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8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5339-2E51-4CA6-BA96-C44374701D0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reeform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5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7C30-D223-44CD-9E2F-9F3EE6F19A4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ight Triangle 2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B908-31BB-4F01-92CD-A8280EBA44E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source=images&amp;cd=&amp;cad=rja&amp;uact=8&amp;ved=0ahUKEwjUkJTLpLnVAhXKbhQKHVAjBCQQjRwIBw&amp;url=http%3A%2F%2Fwww.easybiologyclass.com%2Fhardy-weinberg-equilibrium-population-evolutionary-genetics%2F&amp;psig=AFQjCNFR5waFI5_ki-ww22bnC_jzu2yntA&amp;ust=1501788548613038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source=images&amp;cd=&amp;cad=rja&amp;uact=8&amp;ved=0ahUKEwiHv62CprnVAhWH0RQKHbviDBUQjRwIBw&amp;url=http%3A%2F%2Fwww.biologyexams4u.com%2F2011%2F12%2Fpopulation-genetics-hardy-weinberg-law.html&amp;psig=AFQjCNFR5waFI5_ki-ww22bnC_jzu2yntA&amp;ust=1501788548613038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source=images&amp;cd=&amp;cad=rja&amp;uact=8&amp;ved=0ahUKEwiXltu_prnVAhWlBsAKHS4_BGUQjRwIBw&amp;url=http%3A%2F%2Fwww.bio.miami.edu%2Fdana%2F250%2F250SS13_18.html&amp;psig=AFQjCNFR5waFI5_ki-ww22bnC_jzu2yntA&amp;ust=1501788548613038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ecec0c"/>
                </a:solidFill>
                <a:latin typeface="Arial"/>
              </a:rPr>
              <a:t>15. ПОПУЛАЦИОНА ГЕНЕТИКА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 u="sng">
                <a:solidFill>
                  <a:srgbClr val="000000"/>
                </a:solidFill>
                <a:uFillTx/>
                <a:latin typeface="Arial"/>
              </a:rPr>
              <a:t>Биохемијске одлике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лектрофорезом је показано да је код чове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28% гена полиморф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72% гена мономорф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6,7% се налази у хетерозиготном стањ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 u="sng">
                <a:solidFill>
                  <a:srgbClr val="000000"/>
                </a:solidFill>
                <a:uFillTx/>
                <a:latin typeface="Arial"/>
              </a:rPr>
              <a:t>Хромозомски полиморфизам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о су промене у структури хромозома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које немају патолошке последице по носиоц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акве су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ужина центромерног регио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еличина Y хромозо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еличина и присуство сателита на акроцентричним хромозоми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рагилна места (изузетак је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fra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верзије хромозома (по неким ауторим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88930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Hardy-Weinbergov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правило 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је основа популационе генетике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4000" y="24681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глески матема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чар Har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мачки лекар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Weinberg  (190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популацији посто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 алела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 A 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 алела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 a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сто код јединки оба по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800" spc="-1" strike="noStrike">
                <a:solidFill>
                  <a:srgbClr val="000000"/>
                </a:solidFill>
                <a:latin typeface="Times New Roman"/>
              </a:rPr>
              <a:t>Учесталости генских алела и генотипова у  популацији</a:t>
            </a:r>
            <a:endParaRPr b="0" lang="en-US" sz="38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17" name="Picture 35" descr="Image result for hardy weinberg ima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1844640"/>
            <a:ext cx="4968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64072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800" spc="-1" strike="noStrike" u="sng">
                <a:solidFill>
                  <a:srgbClr val="ff0000"/>
                </a:solidFill>
                <a:uFillTx/>
                <a:latin typeface="Arial"/>
              </a:rPr>
              <a:t>Hardi-Vajnbergov </a:t>
            </a:r>
            <a:r>
              <a:rPr b="1" lang="sr-CS" sz="3800" spc="-1" strike="noStrike" u="sng">
                <a:solidFill>
                  <a:srgbClr val="ff0000"/>
                </a:solidFill>
                <a:uFillTx/>
                <a:latin typeface="Arial"/>
              </a:rPr>
              <a:t>закон</a:t>
            </a:r>
            <a:r>
              <a:rPr b="1" lang="sr-CS" sz="3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50920" y="1773000"/>
            <a:ext cx="864216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sr-RS" sz="2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sr-RS" sz="2600" spc="-1" strike="noStrike">
                <a:solidFill>
                  <a:srgbClr val="ff0000"/>
                </a:solidFill>
                <a:latin typeface="Arial"/>
              </a:rPr>
              <a:t>(АА)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2pq</a:t>
            </a:r>
            <a:r>
              <a:rPr b="1" lang="sr-RS" sz="2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Aa</a:t>
            </a:r>
            <a:r>
              <a:rPr b="1" lang="sr-RS" sz="26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sr-Latn-CS" sz="2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sr-RS" sz="26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aa</a:t>
            </a:r>
            <a:r>
              <a:rPr b="1" lang="sr-RS" sz="26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 (100%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р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пулација одр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жав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воју генети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у структуру </a:t>
            </a:r>
            <a:r>
              <a:rPr b="0" lang="sr-Latn-R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равнотежу)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приликом прелаза из једне генерације у друг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Фреквeнца генотипова у генерацији потомака зависи од фреквенце генских алела у родитељско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ј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генерацији</a:t>
            </a:r>
            <a:r>
              <a:rPr b="0" lang="sr-Latn-CS" sz="26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Image result for hardy weinberg ima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260280"/>
            <a:ext cx="16412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Фреквенца хетерозигота (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pq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r-RS" sz="4000" spc="-1" strike="noStrike">
                <a:solidFill>
                  <a:srgbClr val="000000"/>
                </a:solidFill>
                <a:latin typeface="Arial"/>
              </a:rPr>
              <a:t> у популацији у равнотежи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50920" y="2060280"/>
            <a:ext cx="446544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Максимална је 0,5 или 5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Може да буде већа од фреквенц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једног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хомозигота, али никада није већа од збира хомозигот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2p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/&lt;p2+q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ксимална је кадa је фреквенцa aлeл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једнака фреквенц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лела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q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Image result for hardy weinberg ima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2276640"/>
            <a:ext cx="39146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Да би популација одржала своју генетичку структуру (равнотежу)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95280" y="2492280"/>
            <a:ext cx="8229600" cy="37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отребно је да следећи услови буду задовољени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Да нема миграциј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Да популација остане у панмиксиј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Да нема мутациј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 u="sng">
                <a:solidFill>
                  <a:srgbClr val="000000"/>
                </a:solidFill>
                <a:uFillTx/>
                <a:latin typeface="Arial"/>
              </a:rPr>
              <a:t>Панмиксија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азликује се од случајног спаривањ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cc0099"/>
                </a:solidFill>
                <a:latin typeface="Arial"/>
              </a:rPr>
              <a:t>Случајно спаривање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вероватноћа да јединка једног пола има шансе да буде опло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на јединком другог пола код које се посматрано својство испољава на исти нач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панмиксији поред случајног спаривања потребно је д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Сваки тип укрштања даје исти број потома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Однос полова у популацији буде 1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: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Популација буде бесконачно велика</a:t>
            </a:r>
            <a:r>
              <a:rPr b="1" lang="sr-Latn-CS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Разликују се два типа одступања од случајног спаривања: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2864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i="1" lang="sr-CS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sr-CS" sz="2800" spc="-1" strike="noStrike">
                <a:solidFill>
                  <a:srgbClr val="0000ff"/>
                </a:solidFill>
                <a:latin typeface="Arial"/>
              </a:rPr>
              <a:t>Асортативно укрштање генотип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Позитивно (инбридинг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чешће спаривање јединки које се налазе у већем степену сродства него што се налази просечан пар јединки те популациј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Негативно (аутбридинг)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шће спаривање јединки које се налазе у мањем степену сродстава него што се налази просечан пар јединки те популациј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sr-CS" sz="2800" spc="-1" strike="noStrike">
                <a:solidFill>
                  <a:srgbClr val="0000ff"/>
                </a:solidFill>
                <a:latin typeface="Arial"/>
              </a:rPr>
              <a:t>Асортативно укрштање фенотип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Позитивн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чешће спаривање јединки код којих се посматрано својство испољава на исти/сличан начи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Негативн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чешће спаривање јединки код којих се посматрано својство испољава на различите начин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Када би популација стално одржавала генетичку структуру не би било </a:t>
            </a:r>
            <a:r>
              <a:rPr b="1" lang="sr-CS" sz="3600" spc="-1" strike="noStrike">
                <a:solidFill>
                  <a:srgbClr val="0000ff"/>
                </a:solidFill>
                <a:latin typeface="Arial"/>
              </a:rPr>
              <a:t>еволуције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03320" y="2637000"/>
            <a:ext cx="8640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cc0099"/>
                </a:solidFill>
                <a:latin typeface="Arial"/>
              </a:rPr>
              <a:t>Фактори еволуциј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- фактори који ремете генетичку структуру популације су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2600" spc="-1" strike="noStrike">
                <a:solidFill>
                  <a:srgbClr val="000000"/>
                </a:solidFill>
                <a:latin typeface="Arial"/>
              </a:rPr>
              <a:t>Систематски и несистематски фактор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ff"/>
                </a:solidFill>
                <a:latin typeface="Arial"/>
              </a:rPr>
              <a:t>Селекција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sr-CS" sz="2600" spc="-1" strike="noStrike">
                <a:solidFill>
                  <a:srgbClr val="000000"/>
                </a:solidFill>
                <a:latin typeface="Arial"/>
              </a:rPr>
              <a:t>систематск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ff"/>
                </a:solidFill>
                <a:latin typeface="Arial"/>
              </a:rPr>
              <a:t>Мутације, миграције, генетички дрифт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i="1" lang="sr-CS" sz="2600" spc="-1" strike="noStrike">
                <a:solidFill>
                  <a:srgbClr val="000000"/>
                </a:solidFill>
                <a:latin typeface="Arial"/>
              </a:rPr>
              <a:t>несистематск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2600" spc="-1" strike="noStrike">
                <a:solidFill>
                  <a:srgbClr val="000000"/>
                </a:solidFill>
                <a:latin typeface="Arial"/>
              </a:rPr>
              <a:t>фактори еволуциј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 u="sng">
                <a:solidFill>
                  <a:srgbClr val="000000"/>
                </a:solidFill>
                <a:uFillTx/>
                <a:latin typeface="Arial"/>
              </a:rPr>
              <a:t>ПОПУЛАЦИЈА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ff"/>
                </a:solidFill>
                <a:latin typeface="Arial"/>
              </a:rPr>
              <a:t>Популациј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је скуп јединки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исте врсте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е насељавају одређено станиште у одређено време и које могу да ступе у репродукционе однос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 u="sng">
                <a:solidFill>
                  <a:srgbClr val="000000"/>
                </a:solidFill>
                <a:uFillTx/>
                <a:latin typeface="Arial"/>
              </a:rPr>
              <a:t>Природна селекција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 је фаворизација или елиминација гена или генотипова услед диференцијалног фертилитета или диференцијалног преживљавања једин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лативна репродуктивна способност јединки - </a:t>
            </a:r>
            <a:r>
              <a:rPr b="1" i="1" lang="sr-CS" sz="2400" spc="-1" strike="noStrike">
                <a:solidFill>
                  <a:srgbClr val="0000ff"/>
                </a:solidFill>
                <a:latin typeface="Arial"/>
              </a:rPr>
              <a:t>адаптивна</a:t>
            </a:r>
            <a:r>
              <a:rPr b="0" lang="sr-C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sr-CS" sz="2400" spc="-1" strike="noStrike">
                <a:solidFill>
                  <a:srgbClr val="0000ff"/>
                </a:solidFill>
                <a:latin typeface="Arial"/>
              </a:rPr>
              <a:t>вредност</a:t>
            </a:r>
            <a:r>
              <a:rPr b="0" lang="sr-C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ff"/>
                </a:solidFill>
                <a:latin typeface="Arial"/>
              </a:rPr>
              <a:t>(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епен смањења релативне репродуктивне способности је </a:t>
            </a:r>
            <a:r>
              <a:rPr b="1" i="1" lang="sr-CS" sz="2400" spc="-1" strike="noStrike">
                <a:solidFill>
                  <a:srgbClr val="0000ff"/>
                </a:solidFill>
                <a:latin typeface="Arial"/>
              </a:rPr>
              <a:t>селекциони коефицијент</a:t>
            </a:r>
            <a:r>
              <a:rPr b="0" lang="sr-C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ff"/>
                </a:solidFill>
                <a:latin typeface="Arial"/>
              </a:rPr>
              <a:t>(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cc0099"/>
                </a:solidFill>
                <a:latin typeface="Arial"/>
              </a:rPr>
              <a:t>W+S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Селекција штетних доминантних гена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94920" y="2060280"/>
            <a:ext cx="8497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рза је пошто у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исто време делује на дом. хомозиготе и на хетерозиго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тетни доминантни ген може да буд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ff"/>
                </a:solidFill>
                <a:latin typeface="Arial"/>
              </a:rPr>
              <a:t>потпуно пенетрантан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а спречава репродукцију свих носилаца- биће елиминисан у тој генерациј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ff"/>
                </a:solidFill>
                <a:latin typeface="Arial"/>
              </a:rPr>
              <a:t>делимично пенетрантан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па спречава репродукцију дела индивидуа (парцијална селекција) и непрекидно се одржава у популациј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Селекција штетних рецесивних гена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95280" y="2276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ора је-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делује само на рецесивне хомозиго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зликујем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ff"/>
                </a:solidFill>
                <a:latin typeface="Arial"/>
              </a:rPr>
              <a:t>Селекцију против хомозигота у корист хетерозиг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ff"/>
                </a:solidFill>
                <a:latin typeface="Arial"/>
              </a:rPr>
              <a:t>Селекцију против хетерозигота у корист хомозиго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1. Селекција против хомозигота у корист хетерозигота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83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. Српаста анемија, таласемија, дефицит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G6P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рпаста анем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s- Hb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S-H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Ss-HbA</a:t>
            </a:r>
            <a:r>
              <a:rPr b="0" lang="sr-RS" sz="2800" spc="-1" strike="noStrike">
                <a:solidFill>
                  <a:srgbClr val="ff0000"/>
                </a:solidFill>
                <a:latin typeface="Arial"/>
              </a:rPr>
              <a:t> и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 HbS</a:t>
            </a:r>
            <a:r>
              <a:rPr b="0" lang="sr-RS" sz="2800" spc="-1" strike="noStrike">
                <a:solidFill>
                  <a:srgbClr val="ff0000"/>
                </a:solidFill>
                <a:latin typeface="Arial"/>
              </a:rPr>
              <a:t>  (има селективну предност у подручју где влада малариј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Селекција против хетерозигота у корист хомозигота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24000" y="2565000"/>
            <a:ext cx="8712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sr-RS" sz="2600" spc="-1" strike="noStrike">
                <a:solidFill>
                  <a:srgbClr val="000000"/>
                </a:solidFill>
                <a:latin typeface="Constantia"/>
              </a:rPr>
              <a:t>Пр.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h </a:t>
            </a:r>
            <a:r>
              <a:rPr b="0" lang="sr-RS" sz="2600" spc="-1" strike="noStrike">
                <a:solidFill>
                  <a:srgbClr val="000000"/>
                </a:solidFill>
                <a:latin typeface="Constantia"/>
              </a:rPr>
              <a:t>фактор</a:t>
            </a:r>
            <a:r>
              <a:rPr b="0" lang="sr-Latn-C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sr-Latn-C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     Dd x d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1   Dd, Dd, 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dd, d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0000"/>
                </a:solidFill>
                <a:latin typeface="Arial"/>
              </a:rPr>
              <a:t>У телу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h</a:t>
            </a:r>
            <a:r>
              <a:rPr b="0" lang="sr-RS" sz="2800" spc="-1" strike="noStrike">
                <a:solidFill>
                  <a:srgbClr val="ff0000"/>
                </a:solidFill>
                <a:latin typeface="Arial"/>
              </a:rPr>
              <a:t> негативне мајке природну селективну предност имају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h</a:t>
            </a:r>
            <a:r>
              <a:rPr b="0" lang="sr-RS" sz="2800" spc="-1" strike="noStrike">
                <a:solidFill>
                  <a:srgbClr val="ff0000"/>
                </a:solidFill>
                <a:latin typeface="Arial"/>
              </a:rPr>
              <a:t> негативни плодов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 u="sng">
                <a:solidFill>
                  <a:srgbClr val="000000"/>
                </a:solidFill>
                <a:uFillTx/>
                <a:latin typeface="Arial"/>
              </a:rPr>
              <a:t>Миграције-ими и емиграције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езбеђују проток ге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личина промене генетичке структуре зависи од тога колики је проток гена и колике су генетичке разлике између две популациј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меном гена популације постају сличније по својој генетичкој структур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 је начин да се у популацији појаве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ови ге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 u="sng">
                <a:solidFill>
                  <a:srgbClr val="000000"/>
                </a:solidFill>
                <a:uFillTx/>
                <a:latin typeface="Arial"/>
              </a:rPr>
              <a:t>Мутације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23640" y="2060280"/>
            <a:ext cx="84452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Герминативне мутације се преносе на потомство из генерације у генерациј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5-20% зачетих зигота заврши као спонтани побача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60% спонтаних побачаја настаје услед хромозомске аберациј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 u="sng">
                <a:solidFill>
                  <a:srgbClr val="000000"/>
                </a:solidFill>
                <a:uFillTx/>
                <a:latin typeface="Arial"/>
              </a:rPr>
              <a:t>Генетички дрифт - генетичка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600" spc="-1" strike="noStrike" u="sng">
                <a:solidFill>
                  <a:srgbClr val="000000"/>
                </a:solidFill>
                <a:uFillTx/>
                <a:latin typeface="Arial"/>
              </a:rPr>
              <a:t>случајност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68360" y="263700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ромена учесталости генских алела у популацији може бити и резултат случајн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Може настати на два начина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ff"/>
                </a:solidFill>
                <a:latin typeface="Arial"/>
              </a:rPr>
              <a:t>Стварањем изола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ff"/>
                </a:solidFill>
                <a:latin typeface="Arial"/>
              </a:rPr>
              <a:t>Губљењем ниско фреквентног генског алела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Пр. у оогенези ниско фреквентни алел се по принципу случајности распореди у полоциту и  губи се из популације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Хумане популације-становници села, једног града, једне улице..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95280" y="1915920"/>
            <a:ext cx="80661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ша врста је издељена у велики број природних популација, а највеће популационе групе су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расе човека</a:t>
            </a:r>
            <a:r>
              <a:rPr b="0" lang="sr-CS" sz="2400" spc="-1" strike="noStrike">
                <a:solidFill>
                  <a:srgbClr val="0000ff"/>
                </a:solidFill>
                <a:latin typeface="Arial"/>
              </a:rPr>
              <a:t>  (негроиди, кавказоиди и монголоид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Раса је група историјски везаних људи са заједничким фондом ге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Обухвата мањи или већи број локалних популациј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ff"/>
                </a:solidFill>
                <a:latin typeface="Arial"/>
              </a:rPr>
              <a:t>Претпоставило се да су расе настале искључиво због географске изолације,  а да су на њих деловали други чиниоци-селекција, генетички дрифт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itle 1" descr=""/>
          <p:cNvPicPr/>
          <p:nvPr/>
        </p:nvPicPr>
        <p:blipFill>
          <a:blip r:embed="rId1"/>
          <a:stretch/>
        </p:blipFill>
        <p:spPr>
          <a:xfrm>
            <a:off x="493560" y="1371600"/>
            <a:ext cx="7894800" cy="18781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68000" y="3645000"/>
            <a:ext cx="78534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R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у полиморфн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лазе се у непрекидном кретању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непрекидној интеракцији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 с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са факторима средине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Генетичка структура популације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2205000"/>
            <a:ext cx="91440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ромена генетичке  структуре популације резултат је прилаг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авања на нове услове среди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Уколико се промене изучавају у функцији времен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cc0099"/>
                </a:solidFill>
                <a:latin typeface="Arial"/>
              </a:rPr>
              <a:t>еволуциона</a:t>
            </a:r>
            <a:r>
              <a:rPr b="1" lang="sr-Latn-CS" sz="2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cc0099"/>
                </a:solidFill>
                <a:latin typeface="Arial"/>
              </a:rPr>
              <a:t>популациона генетика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Уколико се промене изучавају у функцији простор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cc0099"/>
                </a:solidFill>
                <a:latin typeface="Arial"/>
              </a:rPr>
              <a:t>еколошка</a:t>
            </a:r>
            <a:r>
              <a:rPr b="1" lang="sr-Latn-CS" sz="2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cc0099"/>
                </a:solidFill>
                <a:latin typeface="Arial"/>
              </a:rPr>
              <a:t>популациона генетика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</a:rPr>
              <a:t>Генетичка оптерећења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енетичка оптерећења представљају мутације, најчешће рецесивне, које смањују релативну репродуктивну способност једин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дно од најпознатијих генетичких оптерећења је </a:t>
            </a:r>
            <a:r>
              <a:rPr b="1" i="1" lang="sr-CS" sz="2800" spc="-1" strike="noStrike">
                <a:solidFill>
                  <a:srgbClr val="000000"/>
                </a:solidFill>
                <a:latin typeface="Arial"/>
              </a:rPr>
              <a:t>укрштање у блиском сродств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Постоје два приступа</a:t>
            </a:r>
            <a:r>
              <a:rPr b="1" lang="sr-RS" sz="5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78920" y="1935000"/>
            <a:ext cx="87138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Krou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958) – гене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чка оптерећења  су степен сма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а адаптивне вредности 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просечног генотипа у поре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ђ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ењу са најбољим генотип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ff"/>
                </a:solidFill>
                <a:latin typeface="Arial"/>
              </a:rPr>
              <a:t>Dobžansk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1964)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не јединке чија адаптивна вредност се налази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испод просечне утврђене за хетерозиготе, представљају носиоце генетичких оптерећењ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</a:rPr>
              <a:t>Генетичка оптерећења постоје и код људи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68360" y="2743200"/>
            <a:ext cx="7926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orton, Krou, Miler (1956)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 основу података о мртворођеној деци израчуна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летални</a:t>
            </a:r>
            <a:r>
              <a:rPr b="0" lang="sr-C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еквивалент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износи 2 за гамет, односно 4 за зиго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Летални еквивалент-присуство једне леталне мутације или групе делимично леталних мутација.</a:t>
            </a:r>
            <a:r>
              <a:rPr b="0" i="1" lang="sr-CS" sz="2400" spc="-1" strike="noStrike">
                <a:solidFill>
                  <a:srgbClr val="ffffff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Механизам настанка генетичких оптерећења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683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1.  Класична теориј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–Krou i Kim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cc0099"/>
                </a:solidFill>
                <a:latin typeface="Arial"/>
              </a:rPr>
              <a:t>(Мутациона теориј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Већина генских локуса је у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хомозиготно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стањ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Мутацијама се генетичка оптерећења елиминишу из попул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Леталне мутације смањују вијабилност хетерозиго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3-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Нове мутације доводе до настанка генетичких оптерећењ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ff"/>
                </a:solidFill>
                <a:latin typeface="Arial"/>
              </a:rPr>
              <a:t>2. Балансна теорија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5000"/>
            <a:ext cx="822960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Већина генских локуса у попилацији  је у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хетерозиготном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стањ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Главни значај се придаје балансној селекциј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Мутације су рецесивне и у хетерозиготној су комбинациј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Укрштање у блиском сродству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2400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динке у блиском сродству имају већи број идентичних ге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ефицијент инбридинга се израчунава по формули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/2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- степен сродств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о је вероватно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а да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е се одре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ени гени на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ћи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у хомо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готном стању,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а који вод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порекло oд заједничкoг прет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клапање брака у срoдств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кoсaнгвинит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1136160"/>
            <a:ext cx="54882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39280" y="1484280"/>
            <a:ext cx="826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Укрштање у сродству смањује релативну репродуктивну способност једин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Дарвин-ов експеримент (1876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за 8 генерација се број потомака смањио за 3x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Код пацо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% стер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41%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величина легла са 7 на 3 потомка, смртност до 4. недеље 45 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Код бракова у сродству 40% је повећана мртвор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еност деце, а број деце са наследним малформацијама за 30% већ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Склапање брака у сродств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ме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 првим ро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цима</a:t>
            </a:r>
            <a:r>
              <a:rPr b="1" lang="sr-R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84000" y="2708280"/>
            <a:ext cx="792612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orto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 сарадници (1956)  су утврд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рођени недостаци су чешћи за око 48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ртворођеност за око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мирање новорођенчади за око 3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мрт до пунолетства за 100% већ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6836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тари Грци, Египћани и Јевреј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Католичка црк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закон у неким земља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од IV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епена дозвољава склапање бр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ш закон дозвољава од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епена сродств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сторна изолација може да буде разлог за повећану фреквенцу склапања бракова у сродств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енетичку структуру популације чин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вантитативна својства јединки попула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валитативна својства јединки попула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иохемијске одлике јединки попула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ромозомски полиморфиз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1371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e1ea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епен сродств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порција заједничких ген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роватноћа појаве хомозигот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одници 1. степен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дитељи-дец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аћа-сестр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зиготни близанц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одници 2. степен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ичеви, ујаци, тетк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ћац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браћ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сестр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одници  3. степен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ви рођац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аћа и сестре од стричева, ујака, тета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68360" y="184464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sr-CS" sz="5400" spc="-1" strike="noStrike">
                <a:solidFill>
                  <a:srgbClr val="ffffff"/>
                </a:solidFill>
                <a:latin typeface="Arial"/>
                <a:ea typeface="Arial"/>
              </a:rPr>
              <a:t>Одређивање фреквенце генских алела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82000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1. Одређивање фреквенце алела код </a:t>
            </a:r>
            <a:r>
              <a:rPr b="1" lang="sr-CS" sz="4000" spc="-1" strike="noStrike">
                <a:solidFill>
                  <a:srgbClr val="ff0000"/>
                </a:solidFill>
                <a:latin typeface="Times New Roman"/>
              </a:rPr>
              <a:t>моногено детерминисаних особина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78920" y="2421000"/>
            <a:ext cx="86979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мена Харди-Вајнбергове једначин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sr-Latn-CS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(AA) + 2pq (Aa) + q</a:t>
            </a:r>
            <a:r>
              <a:rPr b="1" lang="sr-Latn-CS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(aa</a:t>
            </a:r>
            <a:r>
              <a:rPr b="1" lang="sr-CS" sz="28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 1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10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p + q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 1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74872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000000"/>
                </a:solidFill>
                <a:latin typeface="Arial"/>
              </a:rPr>
              <a:t>2. Одређивање фреквенце </a:t>
            </a:r>
            <a:r>
              <a:rPr b="1" lang="sr-CS" sz="4600" spc="-1" strike="noStrike">
                <a:solidFill>
                  <a:srgbClr val="ff0000"/>
                </a:solidFill>
                <a:latin typeface="Arial"/>
              </a:rPr>
              <a:t>кодоминантних алела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565760" cy="8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ер 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стем крвних гру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пулација садржи 3 крвне груп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73080" y="2997360"/>
          <a:ext cx="9070920" cy="3247920"/>
        </p:xfrm>
        <a:graphic>
          <a:graphicData uri="http://schemas.openxmlformats.org/drawingml/2006/table">
            <a:tbl>
              <a:tblPr/>
              <a:tblGrid>
                <a:gridCol w="2266920"/>
                <a:gridCol w="1643040"/>
                <a:gridCol w="1630440"/>
                <a:gridCol w="1631880"/>
                <a:gridCol w="1898640"/>
              </a:tblGrid>
              <a:tr h="920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енотип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6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Генотип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М 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М</a:t>
                      </a:r>
                      <a:r>
                        <a:rPr b="1" lang="sr-Latn-C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N 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ој јединк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укупан број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Rectangle 4"/>
          <p:cNvSpPr/>
          <p:nvPr/>
        </p:nvSpPr>
        <p:spPr>
          <a:xfrm>
            <a:off x="2556000" y="6237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+ B + C = 1 (100%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Учесталост кодоминантних алела: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79280" y="1600200"/>
            <a:ext cx="896472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         </a:t>
            </a:r>
            <a:r>
              <a:rPr b="0" lang="sr-CS" sz="3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A +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. особа са М кр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руп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. особа са 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кр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руп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. особа 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кр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руп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C + B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купан бр. особа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5"/>
          <p:cNvSpPr/>
          <p:nvPr/>
        </p:nvSpPr>
        <p:spPr>
          <a:xfrm>
            <a:off x="1568520" y="251784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7"/>
          <p:cNvSpPr/>
          <p:nvPr/>
        </p:nvSpPr>
        <p:spPr>
          <a:xfrm>
            <a:off x="1531800" y="4237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250920" y="1773360"/>
            <a:ext cx="3240000" cy="13683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250920" y="3500280"/>
            <a:ext cx="3313080" cy="15843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000000"/>
                </a:solidFill>
                <a:latin typeface="Arial"/>
              </a:rPr>
              <a:t>3. Одређивање фреквенце </a:t>
            </a:r>
            <a:r>
              <a:rPr b="1" lang="sr-CS" sz="4600" spc="-1" strike="noStrike">
                <a:solidFill>
                  <a:srgbClr val="ff0000"/>
                </a:solidFill>
                <a:latin typeface="Arial"/>
              </a:rPr>
              <a:t>мултипних алела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33520" y="2133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е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истем крвних груп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честалост А алела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честалос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алела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честалост О алела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p + q  + r = 1 (100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55200" y="54900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</a:rPr>
              <a:t>У једној популацији: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78920" y="2492280"/>
            <a:ext cx="8425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А + АО +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B + BO + AB +OO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0%)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A         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B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AB   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O  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-  феноти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2pr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2q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2pq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32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 (100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геноти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07960" y="203688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Учесталос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крвне груп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32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+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p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Учесталос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крвне груп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n-US" sz="32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+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q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Учесталос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B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крвне груп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p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Учесталос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крвне груп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32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29760" y="549000"/>
            <a:ext cx="848988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Учесталости мултипних алела</a:t>
            </a:r>
            <a:r>
              <a:rPr b="0" lang="sr-CS" sz="3600" spc="-1" strike="noStrike">
                <a:solidFill>
                  <a:srgbClr val="dbf5f9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r, p, q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15880" y="1915920"/>
            <a:ext cx="8229600" cy="44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= √ 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 = 1- √ B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 = 1- √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4"/>
          <p:cNvSpPr/>
          <p:nvPr/>
        </p:nvSpPr>
        <p:spPr>
          <a:xfrm>
            <a:off x="1692360" y="1916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5"/>
          <p:cNvSpPr/>
          <p:nvPr/>
        </p:nvSpPr>
        <p:spPr>
          <a:xfrm>
            <a:off x="2035080" y="198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6"/>
          <p:cNvSpPr/>
          <p:nvPr/>
        </p:nvSpPr>
        <p:spPr>
          <a:xfrm>
            <a:off x="3716280" y="3573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7"/>
          <p:cNvSpPr/>
          <p:nvPr/>
        </p:nvSpPr>
        <p:spPr>
          <a:xfrm>
            <a:off x="2763720" y="3573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8"/>
          <p:cNvSpPr/>
          <p:nvPr/>
        </p:nvSpPr>
        <p:spPr>
          <a:xfrm>
            <a:off x="3817800" y="50846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9"/>
          <p:cNvSpPr/>
          <p:nvPr/>
        </p:nvSpPr>
        <p:spPr>
          <a:xfrm>
            <a:off x="2809800" y="5064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0"/>
          <p:cNvSpPr/>
          <p:nvPr/>
        </p:nvSpPr>
        <p:spPr>
          <a:xfrm>
            <a:off x="2492280" y="3500280"/>
            <a:ext cx="213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1"/>
          <p:cNvSpPr/>
          <p:nvPr/>
        </p:nvSpPr>
        <p:spPr>
          <a:xfrm>
            <a:off x="2606760" y="49276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748720" cy="118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 u="sng">
                <a:solidFill>
                  <a:srgbClr val="000000"/>
                </a:solidFill>
                <a:uFillTx/>
                <a:latin typeface="Calibri"/>
              </a:rPr>
              <a:t>Квантитативна својства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могу се представити на квантитативној скали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олигено су детерминис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На њихово испољавање утиче фактор среди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Варирају у широком опсегу па се запажају преклапања у испољавању (</a:t>
            </a:r>
            <a:r>
              <a:rPr b="1" i="1" lang="sr-Latn-CS" sz="2800" spc="-1" strike="noStrike">
                <a:solidFill>
                  <a:srgbClr val="0000ff"/>
                </a:solidFill>
                <a:latin typeface="Arial"/>
              </a:rPr>
              <a:t>нема алтернативн</a:t>
            </a:r>
            <a:r>
              <a:rPr b="1" i="1" lang="sr-RS" sz="2800" spc="-1" strike="noStrike">
                <a:solidFill>
                  <a:srgbClr val="0000ff"/>
                </a:solidFill>
                <a:latin typeface="Arial"/>
              </a:rPr>
              <a:t>е</a:t>
            </a:r>
            <a:r>
              <a:rPr b="1" i="1" lang="sr-Latn-CS" sz="2800" spc="-1" strike="noStrike">
                <a:solidFill>
                  <a:srgbClr val="0000ff"/>
                </a:solidFill>
                <a:latin typeface="Arial"/>
              </a:rPr>
              <a:t> особине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р. висина, тежина, ниво холестерола, крвни притиса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боја к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же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вантитативне особине остварују </a:t>
            </a:r>
            <a:r>
              <a:rPr b="1" lang="sr-CS" sz="2800" spc="-1" strike="noStrike">
                <a:solidFill>
                  <a:srgbClr val="0000ff"/>
                </a:solidFill>
                <a:latin typeface="Arial"/>
              </a:rPr>
              <a:t>кумулативан ефека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р.боја коже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АА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најцрњи црнац, аа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најбељи белац, Аа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 АА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–црнац, Аа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мулат, Аа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 аа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Bb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елац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 u="sng">
                <a:solidFill>
                  <a:srgbClr val="000000"/>
                </a:solidFill>
                <a:uFillTx/>
                <a:latin typeface="Arial"/>
              </a:rPr>
              <a:t>Квалитативна својства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ногено су детерминис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 њихово испољавање не утиче фактор среди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арирају у испољавањ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 MN, ABO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000" spc="-1" strike="noStrike" u="sng">
                <a:solidFill>
                  <a:srgbClr val="000000"/>
                </a:solidFill>
                <a:uFillTx/>
                <a:latin typeface="Arial"/>
              </a:rPr>
              <a:t>ABO </a:t>
            </a:r>
            <a:r>
              <a:rPr b="1" lang="sr-CS" sz="5000" spc="-1" strike="noStrike" u="sng">
                <a:solidFill>
                  <a:srgbClr val="000000"/>
                </a:solidFill>
                <a:uFillTx/>
                <a:latin typeface="Arial"/>
              </a:rPr>
              <a:t>систем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18840" y="2124000"/>
            <a:ext cx="39178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У нашој земљ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A-43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-3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-16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B-7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87560" y="2124000"/>
            <a:ext cx="39178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 u="sng">
                <a:solidFill>
                  <a:srgbClr val="000000"/>
                </a:solidFill>
                <a:uFillTx/>
                <a:latin typeface="Arial Narrow"/>
              </a:rPr>
              <a:t>У Европ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0000ff"/>
                </a:solidFill>
                <a:latin typeface="Arial Narrow"/>
              </a:rPr>
              <a:t>А крвна гру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Србија-43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Француска-30-3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Енглеска 25-3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Шкотска 20-2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Исланд 15-2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21520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</a:rPr>
              <a:t>Варира и фреквенца генских алела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836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99"/>
                </a:solidFill>
                <a:latin typeface="Arial"/>
              </a:rPr>
              <a:t>Албиниз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а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ка острва-8,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леме Варега-Конго- 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орвежани и Американци-1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рби-0,7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Швајцарци-0,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ff"/>
                </a:solidFill>
                <a:latin typeface="Arial"/>
              </a:rPr>
              <a:t>Апачи-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42920" y="2332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99"/>
                </a:solidFill>
                <a:latin typeface="Arial"/>
              </a:rPr>
              <a:t>ПТ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устралијски урођеници-7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скими-58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нци-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би-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дуси-4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линежани и Африканци-28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инези-1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Индијанци из Бразила-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21:33:24Z</dcterms:created>
  <dc:creator>User</dc:creator>
  <dc:description/>
  <dc:language>en-US</dc:language>
  <cp:lastModifiedBy>Olivera Milošević-Đorđević</cp:lastModifiedBy>
  <dcterms:modified xsi:type="dcterms:W3CDTF">2023-01-31T18:50:06Z</dcterms:modified>
  <cp:revision>183</cp:revision>
  <dc:subject/>
  <dc:title>MUTACIJE GENA</dc:title>
</cp:coreProperties>
</file>